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731484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69720" y="731484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69720" y="731484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1269720" y="7314840"/>
            <a:ext cx="10464840" cy="87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731484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731484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731484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69720" y="731484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269720" y="731484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269720" y="731484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731484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69720" y="731484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731484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731484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269720" y="731484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1269720" y="7314840"/>
            <a:ext cx="10464840" cy="87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69720" y="731484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69720" y="731484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69720" y="731484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269720" y="731484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9720" y="731484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731484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269720" y="731484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731484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269720" y="731484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69720" y="731484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69720" y="731484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1269720" y="7314840"/>
            <a:ext cx="10464840" cy="87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731484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731484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731484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69720" y="731484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269720" y="731484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269720" y="731484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731484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731484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269720" y="731484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731484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269720" y="7314840"/>
            <a:ext cx="10464840" cy="87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269720" y="731484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731484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269720" y="731484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69720" y="731484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269720" y="731484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269720" y="731484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269720" y="731484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731484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731484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731484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7314840"/>
            <a:ext cx="10464840" cy="87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731484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731484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731484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731484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731484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731484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731484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69720" y="731484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69720" y="731484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69720" y="731484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69720" y="731484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731484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269720" y="7314840"/>
            <a:ext cx="10464840" cy="87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69720" y="731484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69720" y="731484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69720" y="731484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69720" y="731484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69720" y="731484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69720" y="731484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731484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731484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731484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69720" y="731484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731484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1269720" y="7314840"/>
            <a:ext cx="10464840" cy="87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69720" y="731484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69720" y="731484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69720" y="731484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69720" y="731484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69720" y="731484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69720" y="731484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731484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69720" y="731484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69720" y="731484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731484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69720" y="731484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1269720" y="7314840"/>
            <a:ext cx="10464840" cy="87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69720" y="731484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69720" y="731484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69720" y="731484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731484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69720" y="731484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7314840"/>
            <a:ext cx="10464840" cy="87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69720" y="731484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731484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69720" y="731484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69720" y="731484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69720" y="731484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1269720" y="7314840"/>
            <a:ext cx="10464840" cy="87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731484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9720" y="731484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9720" y="731484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731484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69720" y="731484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69720" y="731484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69720" y="731484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731484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69720" y="731484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69720" y="731484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69720" y="731484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269720" y="7314840"/>
            <a:ext cx="10464840" cy="87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731484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731484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9720" y="731484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731484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69720" y="731484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69720" y="731484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69720" y="731484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731484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69720" y="731484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69720" y="731484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69720" y="731484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731484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1269720" y="7314840"/>
            <a:ext cx="10464840" cy="87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731484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731484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731484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69720" y="731484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269720" y="731484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269720" y="731484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731484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69720" y="731484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1486080"/>
            <a:ext cx="10464840" cy="346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2f1a14"/>
                </a:solidFill>
                <a:latin typeface="Papyrus"/>
              </a:rPr>
              <a:t>Click to edit the title text format</a:t>
            </a: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473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5000"/>
          </a:bodyPr>
          <a:p>
            <a:pPr marL="11988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a14"/>
                </a:solidFill>
                <a:latin typeface="Papyrus"/>
              </a:rPr>
              <a:t>Click to edit the outline text format</a:t>
            </a: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  <a:p>
            <a:pPr lvl="1" marL="119880" indent="-119880" algn="ctr">
              <a:buClr>
                <a:srgbClr val="2f1a14"/>
              </a:buClr>
              <a:buFont typeface="Papyru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a14"/>
                </a:solidFill>
                <a:latin typeface="Papyrus"/>
              </a:rPr>
              <a:t>Second Outline Level</a:t>
            </a: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  <a:p>
            <a:pPr lvl="2" marL="119880" indent="-119880" algn="ctr">
              <a:buClr>
                <a:srgbClr val="2f1a14"/>
              </a:buClr>
              <a:buFont typeface="Papyru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a14"/>
                </a:solidFill>
                <a:latin typeface="Papyrus"/>
              </a:rPr>
              <a:t>Third Outline Level</a:t>
            </a: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  <a:p>
            <a:pPr lvl="3" marL="119880" indent="-119880" algn="ctr">
              <a:buClr>
                <a:srgbClr val="2f1a14"/>
              </a:buClr>
              <a:buFont typeface="Papyru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a14"/>
                </a:solidFill>
                <a:latin typeface="Papyrus"/>
              </a:rPr>
              <a:t>Fourth Outline Level</a:t>
            </a: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  <a:p>
            <a:pPr lvl="4" marL="119880" indent="-119880" algn="ctr">
              <a:buClr>
                <a:srgbClr val="2f1a14"/>
              </a:buClr>
              <a:buFont typeface="Papyru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a14"/>
                </a:solidFill>
                <a:latin typeface="Papyrus"/>
              </a:rPr>
              <a:t>Fifth Outline Level</a:t>
            </a: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  <a:p>
            <a:pPr lvl="5" marL="119880" indent="-119880" algn="ctr">
              <a:buClr>
                <a:srgbClr val="2f1a14"/>
              </a:buClr>
              <a:buFont typeface="Papyru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a14"/>
                </a:solidFill>
                <a:latin typeface="Papyrus"/>
              </a:rPr>
              <a:t>Sixth Outline Level</a:t>
            </a: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  <a:p>
            <a:pPr lvl="6" marL="119880" indent="-119880" algn="ctr">
              <a:buClr>
                <a:srgbClr val="2f1a14"/>
              </a:buClr>
              <a:buFont typeface="Papyru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a14"/>
                </a:solidFill>
                <a:latin typeface="Papyrus"/>
              </a:rPr>
              <a:t>Seventh Outline Level</a:t>
            </a: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body"/>
          </p:nvPr>
        </p:nvSpPr>
        <p:spPr>
          <a:xfrm>
            <a:off x="1269720" y="1168560"/>
            <a:ext cx="10464840" cy="7416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2880" indent="-558720">
              <a:spcBef>
                <a:spcPts val="36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Click to edit the outline text format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lvl="1" marL="1511280" indent="-558720">
              <a:spcBef>
                <a:spcPts val="36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Second Outline Level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lvl="2" marL="2222640" indent="-559080">
              <a:spcBef>
                <a:spcPts val="36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Third Outline Level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lvl="3" marL="2933640" indent="-558720">
              <a:spcBef>
                <a:spcPts val="36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Fourth Outline Level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lvl="4" marL="3657600" indent="-558720">
              <a:spcBef>
                <a:spcPts val="36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Fifth Outline Level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lvl="5" marL="3657600" indent="-558720">
              <a:spcBef>
                <a:spcPts val="36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Sixth Outline Level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lvl="6" marL="3657600" indent="-558720">
              <a:spcBef>
                <a:spcPts val="36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Seventh Outline Level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69720" y="3137040"/>
            <a:ext cx="10464840" cy="346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2f1a14"/>
                </a:solidFill>
                <a:latin typeface="Papyrus"/>
              </a:rPr>
              <a:t>Click to edit the title text format</a:t>
            </a: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2f1a14"/>
                </a:solidFill>
                <a:latin typeface="Papyrus"/>
              </a:rPr>
              <a:t>Click to edit the title text format</a:t>
            </a: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819160"/>
            <a:ext cx="10464840" cy="584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2880" indent="-558720">
              <a:spcBef>
                <a:spcPts val="11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Click to edit the outline text format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lvl="1" marL="1511280" indent="-558720">
              <a:spcBef>
                <a:spcPts val="11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Second Outline Level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lvl="2" marL="2222640" indent="-559080">
              <a:spcBef>
                <a:spcPts val="11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Third Outline Level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lvl="3" marL="2933640" indent="-558720">
              <a:spcBef>
                <a:spcPts val="11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Fourth Outline Level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lvl="4" marL="3657600" indent="-558720">
              <a:spcBef>
                <a:spcPts val="11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Fifth Outline Level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lvl="5" marL="3657600" indent="-558720">
              <a:spcBef>
                <a:spcPts val="11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Sixth Outline Level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lvl="6" marL="3657600" indent="-558720">
              <a:spcBef>
                <a:spcPts val="11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Seventh Outline Level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1270080" y="2819160"/>
            <a:ext cx="4952880" cy="584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8000"/>
          </a:bodyPr>
          <a:p>
            <a:pPr marL="485280" indent="-30708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Click to edit the outline text format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1" marL="891360" indent="-30708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Second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2" marL="1248120" indent="-30708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Third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3" marL="1653840" indent="-30672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Fourth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4" marL="2060280" indent="-30708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Fifth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5" marL="2060280" indent="-30708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Sixth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6" marL="2060280" indent="-30708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Seventh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2f1a14"/>
                </a:solidFill>
                <a:latin typeface="Papyrus"/>
              </a:rPr>
              <a:t>Click to edit the title text format</a:t>
            </a: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731484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2f1a14"/>
                </a:solidFill>
                <a:latin typeface="Papyrus"/>
              </a:rPr>
              <a:t>Click to edit the title text format</a:t>
            </a: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a14"/>
                </a:solidFill>
                <a:latin typeface="Papyrus"/>
              </a:rPr>
              <a:t>Click to edit the outline text format</a:t>
            </a: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  <a:p>
            <a:pPr lvl="1" marL="74304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a14"/>
                </a:solidFill>
                <a:latin typeface="Papyrus"/>
              </a:rPr>
              <a:t>Second Outline Level</a:t>
            </a: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  <a:p>
            <a:pPr lvl="2" marL="1143000" indent="-228600" algn="ctr">
              <a:buClr>
                <a:srgbClr val="2f1a14"/>
              </a:buClr>
              <a:buFont typeface="Papyru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a14"/>
                </a:solidFill>
                <a:latin typeface="Papyrus"/>
              </a:rPr>
              <a:t>Third Outline Level</a:t>
            </a: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  <a:p>
            <a:pPr lvl="3" marL="1600200" indent="-228600" algn="ctr">
              <a:buClr>
                <a:srgbClr val="2f1a14"/>
              </a:buClr>
              <a:buFont typeface="Papyru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a14"/>
                </a:solidFill>
                <a:latin typeface="Papyrus"/>
              </a:rPr>
              <a:t>Fourth Outline Level</a:t>
            </a: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  <a:p>
            <a:pPr lvl="4" marL="2057400" indent="-228600" algn="ctr">
              <a:buClr>
                <a:srgbClr val="2f1a14"/>
              </a:buClr>
              <a:buFont typeface="Papyru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a14"/>
                </a:solidFill>
                <a:latin typeface="Papyrus"/>
              </a:rPr>
              <a:t>Fifth Outline Level</a:t>
            </a: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  <a:p>
            <a:pPr lvl="5" marL="2057400" indent="-228600">
              <a:spcBef>
                <a:spcPts val="901"/>
              </a:spcBef>
              <a:buClr>
                <a:srgbClr val="2f1a14"/>
              </a:buClr>
              <a:buFont typeface="Papyru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a14"/>
                </a:solidFill>
                <a:latin typeface="Papyrus"/>
              </a:rPr>
              <a:t>Sixth Outline Level</a:t>
            </a: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  <a:p>
            <a:pPr lvl="6" marL="2057400" indent="-228600">
              <a:spcBef>
                <a:spcPts val="901"/>
              </a:spcBef>
              <a:buClr>
                <a:srgbClr val="2f1a14"/>
              </a:buClr>
              <a:buFont typeface="Papyru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a14"/>
                </a:solidFill>
                <a:latin typeface="Papyrus"/>
              </a:rPr>
              <a:t>Seventh Outline Level</a:t>
            </a: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2f1a14"/>
                </a:solidFill>
                <a:latin typeface="Papyrus"/>
              </a:rPr>
              <a:t>Click to edit the title text format</a:t>
            </a: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1269720" y="2819160"/>
            <a:ext cx="10464840" cy="584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622440" indent="-39384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Click to edit the outline text format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1" marL="1143000" indent="-39384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Second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2" marL="1600200" indent="-39384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Third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3" marL="2120760" indent="-39348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Fourth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4" marL="2641680" indent="-39384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Fifth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5" marL="2641680" indent="-39384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Sixth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6" marL="2641680" indent="-39384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Seventh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2f1a14"/>
                </a:solidFill>
                <a:latin typeface="Papyrus"/>
              </a:rPr>
              <a:t>Click to edit the title text format</a:t>
            </a: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270080" y="2819160"/>
            <a:ext cx="4952880" cy="584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8000"/>
          </a:bodyPr>
          <a:p>
            <a:pPr marL="485280" indent="-30708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Click to edit the outline text format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1" marL="891360" indent="-30708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Second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2" marL="1248120" indent="-30708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Third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3" marL="1653840" indent="-30672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Fourth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4" marL="2060280" indent="-30708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Fifth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5" marL="2060280" indent="-30708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Sixth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6" marL="2060280" indent="-30708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Seventh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2f1a14"/>
                </a:solidFill>
                <a:latin typeface="Papyrus"/>
              </a:rPr>
              <a:t>Click to edit the title text format</a:t>
            </a: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353000" y="2819160"/>
            <a:ext cx="4381560" cy="584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1000"/>
          </a:bodyPr>
          <a:p>
            <a:pPr marL="441720" indent="-27936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Click to edit the outline text format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1" marL="811440" indent="-27936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Second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2" marL="1135800" indent="-27936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Third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3" marL="1505520" indent="-27936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Fourth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4" marL="1875240" indent="-27936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Fifth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5" marL="1875240" indent="-27936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Sixth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6" marL="1875240" indent="-27936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Seventh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2108160"/>
            <a:ext cx="610884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f1a14"/>
                </a:solidFill>
                <a:latin typeface="Papyrus"/>
              </a:rPr>
              <a:t>Click to edit the title text format</a:t>
            </a:r>
            <a:endParaRPr b="0" lang="en-US" sz="6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837720" y="5358960"/>
            <a:ext cx="610884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9000"/>
          </a:bodyPr>
          <a:p>
            <a:pPr marL="2365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f1a14"/>
                </a:solidFill>
                <a:latin typeface="Papyrus"/>
              </a:rPr>
              <a:t>Click to edit the outline text format</a:t>
            </a: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  <a:p>
            <a:pPr lvl="1" marL="236520" indent="-236520" algn="ctr">
              <a:buClr>
                <a:srgbClr val="2f1a14"/>
              </a:buClr>
              <a:buFont typeface="Papyru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f1a14"/>
                </a:solidFill>
                <a:latin typeface="Papyrus"/>
              </a:rPr>
              <a:t>Second Outline Level</a:t>
            </a: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  <a:p>
            <a:pPr lvl="2" marL="236520" indent="-236520" algn="ctr">
              <a:buClr>
                <a:srgbClr val="2f1a14"/>
              </a:buClr>
              <a:buFont typeface="Papyru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f1a14"/>
                </a:solidFill>
                <a:latin typeface="Papyrus"/>
              </a:rPr>
              <a:t>Third Outline Level</a:t>
            </a: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  <a:p>
            <a:pPr lvl="3" marL="236520" indent="-236520" algn="ctr">
              <a:buClr>
                <a:srgbClr val="2f1a14"/>
              </a:buClr>
              <a:buFont typeface="Papyru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f1a14"/>
                </a:solidFill>
                <a:latin typeface="Papyrus"/>
              </a:rPr>
              <a:t>Fourth Outline Level</a:t>
            </a: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  <a:p>
            <a:pPr lvl="4" marL="236520" indent="-236520" algn="ctr">
              <a:buClr>
                <a:srgbClr val="2f1a14"/>
              </a:buClr>
              <a:buFont typeface="Papyru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f1a14"/>
                </a:solidFill>
                <a:latin typeface="Papyrus"/>
              </a:rPr>
              <a:t>Fifth Outline Level</a:t>
            </a: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  <a:p>
            <a:pPr lvl="5" marL="236520" indent="-236520" algn="ctr">
              <a:buClr>
                <a:srgbClr val="2f1a14"/>
              </a:buClr>
              <a:buFont typeface="Papyru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f1a14"/>
                </a:solidFill>
                <a:latin typeface="Papyrus"/>
              </a:rPr>
              <a:t>Sixth Outline Level</a:t>
            </a: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  <a:p>
            <a:pPr lvl="6" marL="236520" indent="-236520" algn="ctr">
              <a:buClr>
                <a:srgbClr val="2f1a14"/>
              </a:buClr>
              <a:buFont typeface="Papyru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f1a14"/>
                </a:solidFill>
                <a:latin typeface="Papyrus"/>
              </a:rPr>
              <a:t>Seventh Outline Level</a:t>
            </a: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2f1a14"/>
                </a:solidFill>
                <a:latin typeface="Papyrus"/>
              </a:rPr>
              <a:t>Click to edit the title text format</a:t>
            </a: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http://german.about.com/library/blreform.htm" TargetMode="External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2361960"/>
            <a:ext cx="10464840" cy="346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2f1a14"/>
                </a:solidFill>
                <a:latin typeface="Papyrus"/>
              </a:rPr>
              <a:t>Media and Lesuire: German Spelling Reform</a:t>
            </a: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269720" y="5905440"/>
            <a:ext cx="10464840" cy="1473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a14"/>
                </a:solidFill>
                <a:latin typeface="Papyrus"/>
              </a:rPr>
              <a:t>By Noah Taylor</a:t>
            </a: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2f1a14"/>
                </a:solidFill>
                <a:latin typeface="Papyrus"/>
              </a:rPr>
              <a:t>References</a:t>
            </a: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10464840" cy="584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3640" indent="-55872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I wrote this Powerpoint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marL="863640" indent="-558720"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9999"/>
                </a:solidFill>
                <a:uFillTx/>
                <a:latin typeface="Papyrus"/>
                <a:hlinkClick r:id="rId4"/>
              </a:rPr>
              <a:t>http://german.about.com/library/blreform.htm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marL="863640" indent="-558720"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2f1a14"/>
                </a:solidFill>
                <a:uFillTx/>
                <a:latin typeface="Papyrus"/>
              </a:rPr>
              <a:t>http://www.goethe.de/ges/spa/siw/en630493.htm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marL="863640" indent="-558720"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2f1a14"/>
                </a:solidFill>
                <a:uFillTx/>
                <a:latin typeface="Papyrus"/>
              </a:rPr>
              <a:t>http://www.ultralingua.com/forums/viewtopic.php?f=6&amp;t=34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2f1a14"/>
                </a:solidFill>
                <a:latin typeface="Papyrus"/>
              </a:rPr>
              <a:t>References</a:t>
            </a: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10464840" cy="584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3640" indent="-5587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a14"/>
                </a:solidFill>
                <a:latin typeface="Papyrus"/>
              </a:rPr>
              <a:t>Image references</a:t>
            </a:r>
            <a:endParaRPr b="0" lang="en-US" sz="4000" spc="-1" strike="noStrike">
              <a:solidFill>
                <a:srgbClr val="2f1a14"/>
              </a:solidFill>
              <a:latin typeface="Papyrus"/>
            </a:endParaRPr>
          </a:p>
          <a:p>
            <a:pPr lvl="1" marL="1562040" indent="-5587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2f1a14"/>
                </a:solidFill>
                <a:uFillTx/>
                <a:latin typeface="Papyrus"/>
              </a:rPr>
              <a:t>http://www.dw.de/dw/article/0,,1922563,00.html</a:t>
            </a:r>
            <a:endParaRPr b="0" lang="en-US" sz="4000" spc="-1" strike="noStrike">
              <a:solidFill>
                <a:srgbClr val="2f1a14"/>
              </a:solidFill>
              <a:latin typeface="Papyrus"/>
            </a:endParaRPr>
          </a:p>
          <a:p>
            <a:pPr lvl="1" marL="1562040" indent="-5587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a14"/>
                </a:solidFill>
                <a:latin typeface="Papyrus"/>
              </a:rPr>
              <a:t>http://www.kinder-hd-uni.de/rechtschreib0.html</a:t>
            </a:r>
            <a:endParaRPr b="0" lang="en-US" sz="4000" spc="-1" strike="noStrike">
              <a:solidFill>
                <a:srgbClr val="2f1a14"/>
              </a:solidFill>
              <a:latin typeface="Papyrus"/>
            </a:endParaRPr>
          </a:p>
          <a:p>
            <a:pPr lvl="1" marL="1562040" indent="-5587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a14"/>
                </a:solidFill>
                <a:latin typeface="Papyrus"/>
              </a:rPr>
              <a:t>http://www.amazon.com/Duden-Deutsche-Rechtschreibung-Betriebswirtschaftlichen-Forschung/dp/3411040122</a:t>
            </a:r>
            <a:endParaRPr b="0" lang="en-US" sz="4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8" name="Group 5"/>
          <p:cNvGrpSpPr/>
          <p:nvPr/>
        </p:nvGrpSpPr>
        <p:grpSpPr>
          <a:xfrm>
            <a:off x="1320840" y="1523880"/>
            <a:ext cx="10108800" cy="6743520"/>
            <a:chOff x="1320840" y="1523880"/>
            <a:chExt cx="10108800" cy="6743520"/>
          </a:xfrm>
        </p:grpSpPr>
        <p:pic>
          <p:nvPicPr>
            <p:cNvPr id="479" name="Picture 6" descr=""/>
            <p:cNvPicPr/>
            <p:nvPr/>
          </p:nvPicPr>
          <p:blipFill>
            <a:blip r:embed="rId2"/>
            <a:srcRect l="0" t="974" r="0" b="192"/>
            <a:stretch/>
          </p:blipFill>
          <p:spPr>
            <a:xfrm>
              <a:off x="1655280" y="1838160"/>
              <a:ext cx="9399600" cy="61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7" descr=""/>
            <p:cNvPicPr/>
            <p:nvPr/>
          </p:nvPicPr>
          <p:blipFill>
            <a:blip r:embed="rId3"/>
            <a:stretch/>
          </p:blipFill>
          <p:spPr>
            <a:xfrm>
              <a:off x="1320840" y="1523880"/>
              <a:ext cx="10108800" cy="67435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2f1a14"/>
                </a:solidFill>
                <a:latin typeface="Papyrus"/>
              </a:rPr>
              <a:t>History of Spelling Reform</a:t>
            </a:r>
            <a:endParaRPr b="0" lang="en-US" sz="64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10464840" cy="584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3640" indent="-55872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In 1901 the first official spelling rules were put in place by the german government.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marL="863640" indent="-558720"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Then Switzerland officially abolished the “ß” character in 1938.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marL="863640" indent="-558720"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Hitler tries for spelling reform but fails due to harsh war conditions (1944)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Picture 1" descr=""/>
          <p:cNvPicPr/>
          <p:nvPr/>
        </p:nvPicPr>
        <p:blipFill>
          <a:blip r:embed="rId2"/>
          <a:stretch/>
        </p:blipFill>
        <p:spPr>
          <a:xfrm>
            <a:off x="7315200" y="3048120"/>
            <a:ext cx="3835440" cy="5371920"/>
          </a:xfrm>
          <a:prstGeom prst="rect">
            <a:avLst/>
          </a:prstGeom>
          <a:ln w="0">
            <a:noFill/>
          </a:ln>
        </p:spPr>
      </p:pic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2f1a14"/>
                </a:solidFill>
                <a:latin typeface="Papyrus"/>
              </a:rPr>
              <a:t>Reform of 1996</a:t>
            </a:r>
            <a:endParaRPr b="0" lang="en-US" sz="64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270080" y="2819160"/>
            <a:ext cx="4952880" cy="584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3200" indent="-393840">
              <a:spcBef>
                <a:spcPts val="28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New spelling rules were approved in July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marL="673200" indent="-393840">
              <a:spcBef>
                <a:spcPts val="28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They were 10 years in the making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marL="673200" indent="-393840">
              <a:spcBef>
                <a:spcPts val="28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The most significant alteration since 1901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marL="673200" indent="-393840">
              <a:spcBef>
                <a:spcPts val="28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Schools adopted the rules in August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2f1a14"/>
                </a:solidFill>
                <a:latin typeface="Papyrus"/>
              </a:rPr>
              <a:t>Components</a:t>
            </a:r>
            <a:endParaRPr b="0" lang="en-US" sz="64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270080" y="2819160"/>
            <a:ext cx="4952880" cy="584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8000"/>
          </a:bodyPr>
          <a:p>
            <a:pPr marL="659520" indent="-385920">
              <a:spcBef>
                <a:spcPts val="28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a14"/>
                </a:solidFill>
                <a:latin typeface="Papyrus"/>
              </a:rPr>
              <a:t>The most significant change proposed was to get rid of the “ß” character and replace it with two S’s</a:t>
            </a:r>
            <a:endParaRPr b="0" lang="en-US" sz="2800" spc="-1" strike="noStrike">
              <a:solidFill>
                <a:srgbClr val="2f1a14"/>
              </a:solidFill>
              <a:latin typeface="Papyrus"/>
            </a:endParaRPr>
          </a:p>
          <a:p>
            <a:pPr marL="659520" indent="-385920">
              <a:spcBef>
                <a:spcPts val="28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a14"/>
                </a:solidFill>
                <a:latin typeface="Papyrus"/>
              </a:rPr>
              <a:t>The other important altercation was of the changing in the spelling of compound nouns</a:t>
            </a:r>
            <a:endParaRPr b="0" lang="en-US" sz="2800" spc="-1" strike="noStrike">
              <a:solidFill>
                <a:srgbClr val="2f1a14"/>
              </a:solidFill>
              <a:latin typeface="Papyrus"/>
            </a:endParaRPr>
          </a:p>
          <a:p>
            <a:pPr marL="659520" indent="-385920">
              <a:spcBef>
                <a:spcPts val="28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a14"/>
                </a:solidFill>
                <a:latin typeface="Papyrus"/>
              </a:rPr>
              <a:t>Changing spellings to more “Germanic” ones was also noteworthy</a:t>
            </a:r>
            <a:endParaRPr b="0" lang="en-US" sz="2800" spc="-1" strike="noStrike">
              <a:solidFill>
                <a:srgbClr val="2f1a14"/>
              </a:solidFill>
              <a:latin typeface="Papyrus"/>
            </a:endParaRPr>
          </a:p>
        </p:txBody>
      </p:sp>
      <p:pic>
        <p:nvPicPr>
          <p:cNvPr id="460" name="Picture 8" descr=""/>
          <p:cNvPicPr/>
          <p:nvPr/>
        </p:nvPicPr>
        <p:blipFill>
          <a:blip r:embed="rId5"/>
          <a:stretch/>
        </p:blipFill>
        <p:spPr>
          <a:xfrm>
            <a:off x="7112160" y="3733920"/>
            <a:ext cx="4724280" cy="36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2f1a14"/>
                </a:solidFill>
                <a:latin typeface="Papyrus"/>
              </a:rPr>
              <a:t>Reform of 1996 conflict</a:t>
            </a:r>
            <a:endParaRPr b="0" lang="en-US" sz="64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10464840" cy="584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3640" indent="-55872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In October 1996 academics and other intellectuals call for the rules to be retracted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marL="863640" indent="-558720"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In September 1998 the state of Schleswig-Holstein votes to keep schools from adopting the reform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Group 3"/>
          <p:cNvGrpSpPr/>
          <p:nvPr/>
        </p:nvGrpSpPr>
        <p:grpSpPr>
          <a:xfrm>
            <a:off x="6908760" y="3568680"/>
            <a:ext cx="4648320" cy="4343400"/>
            <a:chOff x="6908760" y="3568680"/>
            <a:chExt cx="4648320" cy="4343400"/>
          </a:xfrm>
        </p:grpSpPr>
        <p:pic>
          <p:nvPicPr>
            <p:cNvPr id="464" name="Picture 1" descr=""/>
            <p:cNvPicPr/>
            <p:nvPr/>
          </p:nvPicPr>
          <p:blipFill>
            <a:blip r:embed="rId2"/>
            <a:srcRect l="10514" t="867" r="11934" b="1533"/>
            <a:stretch/>
          </p:blipFill>
          <p:spPr>
            <a:xfrm>
              <a:off x="7074000" y="3733920"/>
              <a:ext cx="4317840" cy="401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" name="Picture 2" descr=""/>
            <p:cNvPicPr/>
            <p:nvPr/>
          </p:nvPicPr>
          <p:blipFill>
            <a:blip r:embed="rId3"/>
            <a:stretch/>
          </p:blipFill>
          <p:spPr>
            <a:xfrm>
              <a:off x="6908760" y="3568680"/>
              <a:ext cx="4648320" cy="4343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2f1a14"/>
                </a:solidFill>
                <a:latin typeface="Papyrus"/>
              </a:rPr>
              <a:t>Public Response</a:t>
            </a:r>
            <a:endParaRPr b="0" lang="en-US" sz="64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270080" y="2819160"/>
            <a:ext cx="4952880" cy="584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3200" indent="-393840">
              <a:spcBef>
                <a:spcPts val="28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a14"/>
                </a:solidFill>
                <a:latin typeface="Papyrus"/>
              </a:rPr>
              <a:t>In 2002 about 80% of Germany was opposed to the reform</a:t>
            </a:r>
            <a:endParaRPr b="0" lang="en-US" sz="2800" spc="-1" strike="noStrike">
              <a:solidFill>
                <a:srgbClr val="2f1a14"/>
              </a:solidFill>
              <a:latin typeface="Papyrus"/>
            </a:endParaRPr>
          </a:p>
          <a:p>
            <a:pPr marL="673200" indent="-393840">
              <a:spcBef>
                <a:spcPts val="28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a14"/>
                </a:solidFill>
                <a:latin typeface="Papyrus"/>
              </a:rPr>
              <a:t>Most people kept spelling conventionally especially between non-governmental cases</a:t>
            </a:r>
            <a:endParaRPr b="0" lang="en-US" sz="2800" spc="-1" strike="noStrike">
              <a:solidFill>
                <a:srgbClr val="2f1a14"/>
              </a:solidFill>
              <a:latin typeface="Papyrus"/>
            </a:endParaRPr>
          </a:p>
          <a:p>
            <a:pPr marL="673200" indent="-393840">
              <a:spcBef>
                <a:spcPts val="28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a14"/>
                </a:solidFill>
                <a:latin typeface="Papyrus"/>
              </a:rPr>
              <a:t>This was despite the efforts of the government to control spelling in the media</a:t>
            </a:r>
            <a:endParaRPr b="0" lang="en-US" sz="28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2f1a14"/>
                </a:solidFill>
                <a:latin typeface="Papyrus"/>
              </a:rPr>
              <a:t>Reform of 2006</a:t>
            </a:r>
            <a:endParaRPr b="0" lang="en-US" sz="64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10464840" cy="584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3640" indent="-55872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Third substantial reform of German spelling and grammar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marL="863640" indent="-558720"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It was an amendment to the reform of 1996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marL="863640" indent="-558720"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The government essentially gave in to the public’s opinion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2f1a14"/>
                </a:solidFill>
                <a:latin typeface="Papyrus"/>
              </a:rPr>
              <a:t>Effects of the 2006 Reform</a:t>
            </a:r>
            <a:endParaRPr b="0" lang="en-US" sz="64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10464840" cy="584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2000"/>
          </a:bodyPr>
          <a:p>
            <a:pPr marL="794520" indent="-51372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Schools are now required to follow further corrected rules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marL="794520" indent="-513720"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The older spelling rules (1996) are now considered incorrect in education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marL="794520" indent="-513720"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The two Länder (Bavaria and North-Rhine Westphalia) are now also required to adhere to new standards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lvl="1" marL="1436760" indent="-513720"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They previously refused to adopt them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2f1a14"/>
                </a:solidFill>
                <a:latin typeface="Papyrus"/>
              </a:rPr>
              <a:t>Current Views of Spelling Reform</a:t>
            </a:r>
            <a:endParaRPr b="0" lang="en-US" sz="64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10464840" cy="584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4000"/>
          </a:bodyPr>
          <a:p>
            <a:pPr marL="811800" indent="-52488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Some writers still believe in the stricter reform of 1996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marL="811800" indent="-524880"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They say that they will spell and publish however they deem fit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marL="811800" indent="-524880"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Many more laymen (not involved with media or education) see the reform as too much trouble; however, the rules are not hard to learn even for non-natives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4T01:07:05Z</dcterms:created>
  <dc:creator/>
  <dc:description/>
  <cp:keywords/>
  <dc:language>en-US</dc:language>
  <cp:lastModifiedBy>Noah Taylor</cp:lastModifiedBy>
  <dcterms:modified xsi:type="dcterms:W3CDTF">2012-08-24T03:08:03Z</dcterms:modified>
  <cp:revision>7</cp:revision>
  <dc:subject/>
  <dc:title>Media and Lesuire: German Spelling Reform</dc:title>
</cp:coreProperties>
</file>